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E79A-82B1-4494-B438-581EB44E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5BDA-25AE-4694-B7CD-CBBC12DF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D735-901E-46AB-B80E-60A37271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BC0B-CC21-495D-ABCD-9A94E7E1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CCDD-DF12-4E47-B7F4-80126F66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76E3-F965-4902-A057-A967ECA3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64C6-A1FA-4EFD-8A53-1488AC14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EFE-8C64-4A7B-BC4D-3F57DF4A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BBA-5310-4C80-B9D5-EA6A8AB3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C252-1ECC-4FA3-9ABE-9C1781F7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75D8-AA16-4B56-81DC-355BA19F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ABCE-95B7-451F-B7FA-7FDE5C13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DBB7-3A4C-4F31-A7F5-7F6C914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21A-74F7-4E05-AB70-E91F022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73CC-24BE-47E9-96A9-F99BCB4E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072-801B-4FC1-8E12-D4151593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F43D-6495-4D5A-ACCD-E2B271F7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B74D-B1D9-4942-B16D-35916C5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AEFD-6253-48C2-8DAC-D1D0F68C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3093-7299-435B-B1BF-A98483C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07CD-C2F7-4D9E-96EE-D6FB98BD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4EB3-CB36-4B54-AAA0-F3874B05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CA03-8371-431A-BD75-6E429D2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A737-2120-4ADF-B619-9DEACA84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A0FB-5092-4C18-A982-DFEE59BD604C}" type="slidenum">
              <a:rPr b="0" lang="it-IT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3A1E-52E5-4609-AD18-2A00AE2A3A27}" type="slidenum">
              <a:rPr b="0" lang="it-IT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Microsoft Wo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Margini şi pagin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03840" y="1052640"/>
            <a:ext cx="618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cc"/>
                </a:solidFill>
                <a:latin typeface="Tahoma"/>
              </a:rPr>
              <a:t>Marginea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reprezintă spaţiul alb dintre text şi marginile pagini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tabilirea marginii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poate fa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 cu mouse-ul şi cu ajutorul rig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File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ge Setup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pentru a deschide caseta de dialog şi din etichet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Margins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introduc valorile marginilor după care se face clic pe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Dimensiune şi orientarea paginii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 stabileşte făcând următorii paş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File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aleg comand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ge Set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clic pe eticheta Paper Size se alege: dimensiunea paginii  Paper Size, orientarea Portrait sau Landscape, zona de document la care se aplică  noile valori ale paginii, se apasă butonul 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555640" cy="380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2386080" cy="19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2457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Elemente grafice în documen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555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10240"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Inserarea unei imagini Clip A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 alege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Pictur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şi opţiune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ClipA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au apăsam butonul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aseta de dialog Microsoft Clip Gallery se selectăm: categoria de imagini, imaginea şi apasăm  butonul –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area unei imagini grafi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Pictur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şi opţiune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rom File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e face clic pe săgeata de derulare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Look in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 şi selectăm folderul în care se găseşte imaginea dorită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lectăm tipurile de fişiere (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ile typ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pentru a vedea imaginea se face clic pe buton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Preview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lic pe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Inse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Desene în docu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View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alegem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Toolbars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 şi afişăm bar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Drawing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care conţine instrumente de desen: linii, săgeţi, elipse, dreptunghiuri, casete de text, obiecte, et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3203640" cy="3032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940360" y="4437000"/>
            <a:ext cx="3203640" cy="1784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8320" y="6591240"/>
            <a:ext cx="43495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Tabe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area unui tab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Table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 alege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 table ..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în caseta de dialog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 tabl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introduce numărul de rânduri şi de coloane, se stabileşte lăţimea coloanelor si se apasă buton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apăsănd buton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AutoFormat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poate stabili de la început formatul tabelului alegând din lista afişată un format realizat şi apoi se face clic pe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29264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- în meniul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Table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  se găsesc toate comenzile pentru editarea tabelului (ştergerea unei linii, coloane sau celule, adăugarea, modificarea dimensiunilor, et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- pentru formtarea tabelului se mai folosesc butoanele din bara de instrumente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Tables and Borders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- dacă nu este acecsibilă se se bifeaza această bara astfel: din meniul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View</a:t>
            </a:r>
            <a:r>
              <a:rPr b="1" lang="ro-RO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Toolbars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 şi opţiunea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Tables and Bor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7800" y="1273320"/>
            <a:ext cx="1295280" cy="555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2352600" cy="1195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905440" y="2819520"/>
            <a:ext cx="3086280" cy="276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546440" y="3048120"/>
            <a:ext cx="1320840" cy="304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250920" y="6643800"/>
            <a:ext cx="54864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cc"/>
                </a:solidFill>
                <a:latin typeface="Tahoma"/>
              </a:rPr>
              <a:t>Editorul de text </a:t>
            </a:r>
            <a:br>
              <a:rPr sz="3800"/>
            </a:br>
            <a:r>
              <a:rPr b="0" lang="ro-RO" sz="3800" spc="-1" strike="noStrike">
                <a:solidFill>
                  <a:srgbClr val="ffffcc"/>
                </a:solidFill>
                <a:latin typeface="Tahoma"/>
              </a:rPr>
              <a:t>                 Microsoft Word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Lansarea aplicaţie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ementele interfeţe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rearea unui nou docu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Fonturi, chenare şi umb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dentarea şi alinie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Deplasarea şi salv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Margini şi pagi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emente grafice în docu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Tab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pre Prezentar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Lansarea aplicaţiei şi închidere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Lansarea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aplicaţiei se fac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1. clic pe buton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START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, clic p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Programs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clic p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Microsoft Word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2. clic pe butonul       din bara de aplicaţii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3. dublu clic pe scurtătură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Închiderea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se 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- cu buton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Close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,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- cu tastel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Alt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,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File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0" algn="just"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14800" y="1600200"/>
            <a:ext cx="3303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Elementele interfeţe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uton de închidere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uton de restaur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uton de minimizare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a de tit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a de meniu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a de instru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spaţiul de luc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a de derul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e de sta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2413080"/>
            <a:ext cx="40384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Crearea unui nou docu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1  din meni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FILE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alege comanda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2  clic pe butonul din bara de instrumente se obţine o foaie alb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3  se apasă simultan tastel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Ctrl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 şi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se obţine o foaie alb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rearea unui  document, pornind de la un şablon se fac următorii paş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din meniul FILE se alege comanda NEW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alege categoria de şabloane dor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lic pe pictograma şablonului dor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lic pe OK  documentul este afişat pe ecran şi este pregătit pentru edita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84840" y="3068640"/>
            <a:ext cx="245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cc"/>
                </a:solidFill>
                <a:latin typeface="Tahoma"/>
              </a:rPr>
              <a:t>Fonturi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907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cc"/>
                </a:solidFill>
                <a:latin typeface="Tahoma"/>
              </a:rPr>
              <a:t>Fontul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reprezintă informaţiile despre un set de caractere: </a:t>
            </a:r>
            <a:r>
              <a:rPr b="1" lang="ro-RO" sz="1800" spc="-1" strike="noStrike">
                <a:solidFill>
                  <a:srgbClr val="ff3300"/>
                </a:solidFill>
                <a:latin typeface="Tahoma"/>
              </a:rPr>
              <a:t>desen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(type face), </a:t>
            </a:r>
            <a:r>
              <a:rPr b="1" lang="ro-RO" sz="1800" spc="-1" strike="noStrike">
                <a:solidFill>
                  <a:srgbClr val="ff3300"/>
                </a:solidFill>
                <a:latin typeface="Tahoma"/>
              </a:rPr>
              <a:t>înălţime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1800" spc="-1" strike="noStrike">
                <a:solidFill>
                  <a:srgbClr val="ff3300"/>
                </a:solidFill>
                <a:latin typeface="Tahoma"/>
              </a:rPr>
              <a:t>lăţime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1800" spc="-1" strike="noStrike">
                <a:solidFill>
                  <a:srgbClr val="ff3300"/>
                </a:solidFill>
                <a:latin typeface="Tahoma"/>
              </a:rPr>
              <a:t>stil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9152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lectarea fontului - s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electaţi caracterele care  le modificaţ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9152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faceţi clic pe meniul Format şi alegeţi comanda Fo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9152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au apăsaţi butonul  din bara cu instrum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9152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e deschide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aseta de dialog FO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egeţi tipul fontului din listă (selectaţi tipul dori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egeţi stilul de fo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egeţi mărimea fontulu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egeţi culoare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lectaţi efectele dor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vizualizaţi fontul obţinut şi selectaţi 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773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cc"/>
                </a:solidFill>
                <a:latin typeface="Tahoma"/>
              </a:rPr>
              <a:t>Chenare şi umbre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05264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electăm textul -  din meniul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Format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alegem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pţiunea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Borders and Sha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Chenarel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stabilesc astfel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alegem etiche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Bord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electăm aspectul general făcând clic pe pictograma din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et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electăm din lis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tyl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: stilul liniei, culoarea, grosimea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în secţiune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Preview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facem clic direct pe schemă pentru a introduce sau elimina chenarul din latur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 clic pe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undalul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stabileşte astfel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alegem etiche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hading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Pentru o culoare compactă o selectăm din paleta din case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i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Pentru a folosi un model aleg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tilul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(Patterns) şi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culoarea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(Color) din lis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În secţiunea P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review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vedeţi rezultatul selectãri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La sfârşit faceţi clic pe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610240" y="1413000"/>
            <a:ext cx="3533760" cy="273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96000" y="4313160"/>
            <a:ext cx="33480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</a:t>
            </a: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dentarea şi aliniere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526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dentarea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este distanţa dintre text şi marginile pagin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 stabileşte cel mai simplu cu ajutorul riglei (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Ruler)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şi a mouse-ulu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au din meniul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Format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ragraph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… iar în caseta de dialog se stabileşte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identarea la stânga şi dreapta (left şi righ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identarea pentru prima linie din opţiunea Special şi se introduce valoarea în caseta de text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se apasă 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paţiul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dintre rânduri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 stabileşte din opţiunea Line spac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Alinierea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textului poate fi:  la stânga (left),  la centru (center) la dreapta (right) şi completă (justif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inierea se poate stabili din: din caseta de dialog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ragraph…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alege opţiunea din list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Alignement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, sau se folosim butoanele din bara de instrumente standa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37160" y="1268280"/>
            <a:ext cx="3606840" cy="4133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04000" y="5661000"/>
            <a:ext cx="1460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Deplasarea şi salvare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ro-RO" sz="1600" spc="-1" strike="noStrike">
                <a:solidFill>
                  <a:srgbClr val="ffffcc"/>
                </a:solidFill>
                <a:latin typeface="Tahoma"/>
              </a:rPr>
              <a:t>Deplasarea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în text se face cu tastele directoare, tastele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Hom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End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PageUp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şi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PageDown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au combinaţii de tas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5472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lvarea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unui document nou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 poate face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ile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 alege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ve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au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Save 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au se apasă butonul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Sav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la închiderea documentului se alege Yes pentru a salv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Pe ecran apare caseta de dialog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ve As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şi facem paşii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tabilim locul unde dorim să salvăm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ve in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criem numele atribuit fişierului în case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ile nam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facem clic pe buton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809960"/>
            <a:ext cx="861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cc"/>
                </a:solidFill>
                <a:latin typeface="Tahoma"/>
              </a:rPr>
              <a:t>Deschiderea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unui document se poate fac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din meniul File se alege comanda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 se apasă butonul din bara de instrumente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se apasă simultan tastele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Ctrl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şi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Din caseta de dialog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Open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care rezultă se stabileş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locul unde este fişierul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Look în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alegem numele din listă sau se scrie în caseta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File name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se apasă butonul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53200" y="1628640"/>
            <a:ext cx="2890800" cy="15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248520" y="3573360"/>
            <a:ext cx="28954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2:44:04Z</dcterms:created>
  <dc:creator>ctvu3</dc:creator>
  <dc:description/>
  <dc:language>en-US</dc:language>
  <cp:lastModifiedBy>ctvu3</cp:lastModifiedBy>
  <dcterms:modified xsi:type="dcterms:W3CDTF">2010-01-03T13:13:46Z</dcterms:modified>
  <cp:revision>3</cp:revision>
  <dc:subject/>
  <dc:title>Recapitulare Microsoft Word</dc:title>
</cp:coreProperties>
</file>